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34.gif" ContentType="image/gif"/>
  <Override PartName="/ppt/media/image26.gif" ContentType="image/gif"/>
  <Override PartName="/ppt/media/image20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5F2-8C36-411B-922A-3DA30A8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643-29C1-4822-9E50-F2F4BAB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FF8-2648-46B8-94D7-854C6554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0D9-83BF-470F-B1DA-A5CFB24B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74D4-D180-4831-81D3-6D23AEC9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16A7-1148-4E28-9EA7-5BFD403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B3D0-16B1-40C3-A8FA-7FC52F8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149-3B90-4A24-BA1F-8A4C90B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208-56C8-42B0-B40E-E7D0C06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E26-5D79-4AC2-B271-58BFDC2C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6A66-42F3-4828-AEB6-4E4C041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568-C17E-4095-AD27-C05F4B0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D41B-5B67-457C-83DF-4A07065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D64-2D4A-49F1-B59C-832DEAA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85D-9C19-48D1-B8F6-06ADD5C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D938-C6E5-42A0-B61B-0F6C290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4AAA-FEA5-4F03-8FD2-7FC4236F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C5-D245-42EF-8814-AFABF7BE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3C6-5064-4111-A5DB-71332F1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A81-F233-4BA2-8D9E-7EA20D1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D57-0668-4EFE-B7AF-38ADE58C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16C-EAED-42B3-8C8A-0AA1AC7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D74-1308-4D33-9EB2-6EFA706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8C6-B2BC-4C18-BFA3-24AE8F1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CB5-4711-406D-BEE6-5167F99D3A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46D-3919-4FAD-B383-F2F171876C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peremeny.ru/UserFiles/Image/narrativ/demonSolj/Alvt.jpg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92160"/>
            <a:ext cx="7107480" cy="3297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928800" y="350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. Т. Твардовский «Рассказ танкист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502280" y="5143680"/>
            <a:ext cx="76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10 п. Гирей Гулькевичского р-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Толстых Еле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can0001"/>
          <p:cNvPicPr/>
          <p:nvPr/>
        </p:nvPicPr>
        <p:blipFill>
          <a:blip r:embed="rId1"/>
          <a:stretch/>
        </p:blipFill>
        <p:spPr>
          <a:xfrm>
            <a:off x="250920" y="404640"/>
            <a:ext cx="4465440" cy="6048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4788000" y="626760"/>
            <a:ext cx="413388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дети быстро становились взрослыми. Они, чувствуя опасность, во время болезней не стонали. При появлении надзирателей больных детей прятали, а они при этом лежали и не шевелились. Каждое утро в 4 часа гудела сирена, и взрослые должны были идти на работу. Старшие дети оставались, присматривали за младшими, занимались уборкой, чинили одежду. За неповиновение детей секли плётками, издевались, проводили над ними опыты, морили голодом, а затем убива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Ничего не может быть страшнее смерти детей, даже на войне.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смерть детей на войне фото"/>
          <p:cNvPicPr/>
          <p:nvPr/>
        </p:nvPicPr>
        <p:blipFill>
          <a:blip r:embed="rId1"/>
          <a:stretch/>
        </p:blipFill>
        <p:spPr>
          <a:xfrm>
            <a:off x="0" y="1557360"/>
            <a:ext cx="7334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127930187.jpg"/>
          <p:cNvPicPr/>
          <p:nvPr/>
        </p:nvPicPr>
        <p:blipFill>
          <a:blip r:embed="rId1"/>
          <a:stretch/>
        </p:blipFill>
        <p:spPr>
          <a:xfrm>
            <a:off x="2357280" y="219240"/>
            <a:ext cx="4579920" cy="66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530_1707814703_big.jp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4262400" cy="580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208080" y="1378080"/>
            <a:ext cx="9547200" cy="2517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642960" y="1905120"/>
            <a:ext cx="8177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1b3"/>
                </a:solidFill>
                <a:latin typeface="Tahoma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1b3"/>
                </a:solidFill>
                <a:latin typeface="Tahoma"/>
              </a:rPr>
              <a:t>ПРИШЕЛ ЧАС - ОНИ ПОКАЗАЛИ, КАКИМ ОГРОМНЫМ МОЖЕТ СТАТЬ МАЛЕНЬКОЕ ДЕТСКОЕ СЕДЦЕ, КОГДА РАЗГОРАЕТСЯ В НЕМ СВЯЩЕННАЯ ЛЮБОВЬ К РОДИНЕ И НЕНАВИСТЬ К ЕЕ ВРАГА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03.gif"/>
          <p:cNvPicPr/>
          <p:nvPr/>
        </p:nvPicPr>
        <p:blipFill>
          <a:blip r:embed="rId2"/>
          <a:stretch/>
        </p:blipFill>
        <p:spPr>
          <a:xfrm>
            <a:off x="7286760" y="0"/>
            <a:ext cx="13572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Леонид Голик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Picture 2" descr="C:\Documents and Settings\инна\Рабочий стол\дети войны\голиков.jpg"/>
          <p:cNvPicPr/>
          <p:nvPr/>
        </p:nvPicPr>
        <p:blipFill>
          <a:blip r:embed="rId1"/>
          <a:stretch/>
        </p:blipFill>
        <p:spPr>
          <a:xfrm>
            <a:off x="5000760" y="1000080"/>
            <a:ext cx="4143240" cy="5235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14200" y="1000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85840" y="26431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Валентин Котик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2" descr="C:\Documents and Settings\инна\Рабочий стол\дети войны\котик.jpg"/>
          <p:cNvPicPr/>
          <p:nvPr/>
        </p:nvPicPr>
        <p:blipFill>
          <a:blip r:embed="rId1"/>
          <a:stretch/>
        </p:blipFill>
        <p:spPr>
          <a:xfrm>
            <a:off x="5070600" y="1143000"/>
            <a:ext cx="4073400" cy="518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01.gif"/>
          <p:cNvPicPr/>
          <p:nvPr/>
        </p:nvPicPr>
        <p:blipFill>
          <a:blip r:embed="rId2"/>
          <a:stretch/>
        </p:blipFill>
        <p:spPr>
          <a:xfrm>
            <a:off x="0" y="485784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214200" y="928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214200" y="27147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Валя Котик погиб как герой, и Родина посмертно удостоила его званием Героя Советского Сою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35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2"/>
          <p:cNvSpPr txBox="1"/>
          <p:nvPr/>
        </p:nvSpPr>
        <p:spPr>
          <a:xfrm>
            <a:off x="3786120" y="357120"/>
            <a:ext cx="49546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Ленинград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ремя блок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иб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00 000 челов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081320" y="260280"/>
            <a:ext cx="4762800" cy="633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 rot="21094200">
            <a:off x="323640" y="1196640"/>
            <a:ext cx="4392360" cy="39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435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16064" t="20500" r="0" b="57939"/>
          <a:stretch/>
        </p:blipFill>
        <p:spPr>
          <a:xfrm>
            <a:off x="2143080" y="5214960"/>
            <a:ext cx="419724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2960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32720" cy="569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42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блок 002"/>
          <p:cNvPicPr/>
          <p:nvPr/>
        </p:nvPicPr>
        <p:blipFill>
          <a:blip r:embed="rId1"/>
          <a:stretch/>
        </p:blipFill>
        <p:spPr>
          <a:xfrm>
            <a:off x="1187280" y="260280"/>
            <a:ext cx="6553440" cy="591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62658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ядя в вечный огонь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ой скорби сиянье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ы послушай святу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уту молчанья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Картинка 17 из 2038"/>
          <p:cNvPicPr/>
          <p:nvPr/>
        </p:nvPicPr>
        <p:blipFill>
          <a:blip r:embed="rId1"/>
          <a:stretch/>
        </p:blipFill>
        <p:spPr>
          <a:xfrm>
            <a:off x="2987640" y="2241720"/>
            <a:ext cx="6156360" cy="461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2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-92160" y="317520"/>
            <a:ext cx="9560160" cy="3602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357200" y="4643280"/>
            <a:ext cx="592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. Т. Твардовский «Рассказ танкист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Твардовский"/>
          <p:cNvPicPr/>
          <p:nvPr/>
        </p:nvPicPr>
        <p:blipFill>
          <a:blip r:embed="rId1"/>
          <a:stretch/>
        </p:blipFill>
        <p:spPr>
          <a:xfrm>
            <a:off x="285840" y="714240"/>
            <a:ext cx="3608280" cy="532944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  <p:pic>
        <p:nvPicPr>
          <p:cNvPr id="158" name="Picture 6" descr="скан018"/>
          <p:cNvPicPr/>
          <p:nvPr/>
        </p:nvPicPr>
        <p:blipFill>
          <a:blip r:embed="rId2"/>
          <a:stretch/>
        </p:blipFill>
        <p:spPr>
          <a:xfrm>
            <a:off x="5052960" y="3286080"/>
            <a:ext cx="2305080" cy="329724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  <p:pic>
        <p:nvPicPr>
          <p:cNvPr id="159" name="Picture 6" descr="i?id=5369591&amp;tov=7"/>
          <p:cNvPicPr/>
          <p:nvPr/>
        </p:nvPicPr>
        <p:blipFill>
          <a:blip r:embed="rId3"/>
          <a:stretch/>
        </p:blipFill>
        <p:spPr>
          <a:xfrm>
            <a:off x="4500720" y="214200"/>
            <a:ext cx="3938400" cy="26434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i?id=24853652&amp;tov=2"/>
          <p:cNvPicPr/>
          <p:nvPr/>
        </p:nvPicPr>
        <p:blipFill>
          <a:blip r:embed="rId1"/>
          <a:stretch/>
        </p:blipFill>
        <p:spPr>
          <a:xfrm>
            <a:off x="285840" y="1143000"/>
            <a:ext cx="2781360" cy="407196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  <p:pic>
        <p:nvPicPr>
          <p:cNvPr id="161" name="i-main-pic" descr="Картинка 3 из 1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9040" y="642960"/>
            <a:ext cx="4286160" cy="560376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428760" y="857160"/>
            <a:ext cx="83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знакомиться со стихотворением А.Т. Твардовского  «Рассказ танкист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Разобрать и проанализировать стихотворение А.Т.Твардов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Рассказ танкист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Научиться выразительно читать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200160" y="1143000"/>
            <a:ext cx="84740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 (по выбору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стихотворение А.Т.Твардов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зу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Выразительно читать стихотво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иллюстрировать 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129040" cy="306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179280" y="0"/>
            <a:ext cx="244800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321600" y="189000"/>
            <a:ext cx="2822400" cy="371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4"/>
          <a:stretch/>
        </p:blipFill>
        <p:spPr>
          <a:xfrm>
            <a:off x="2700360" y="1773360"/>
            <a:ext cx="3448080" cy="487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5"/>
          <a:stretch/>
        </p:blipFill>
        <p:spPr>
          <a:xfrm>
            <a:off x="2411280" y="189000"/>
            <a:ext cx="3894120" cy="270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6"/>
          <a:stretch/>
        </p:blipFill>
        <p:spPr>
          <a:xfrm>
            <a:off x="6588000" y="3500280"/>
            <a:ext cx="2357640" cy="3141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1"/>
          <p:cNvSpPr txBox="1"/>
          <p:nvPr/>
        </p:nvSpPr>
        <p:spPr>
          <a:xfrm>
            <a:off x="1042920" y="2133720"/>
            <a:ext cx="61912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Прямоугольник 10" descr=""/>
          <p:cNvPicPr/>
          <p:nvPr/>
        </p:nvPicPr>
        <p:blipFill>
          <a:blip r:embed="rId7"/>
          <a:stretch/>
        </p:blipFill>
        <p:spPr>
          <a:xfrm>
            <a:off x="85680" y="1030320"/>
            <a:ext cx="9522000" cy="36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6" descr="1941_10"/>
          <p:cNvPicPr/>
          <p:nvPr/>
        </p:nvPicPr>
        <p:blipFill>
          <a:blip r:embed="rId1"/>
          <a:stretch/>
        </p:blipFill>
        <p:spPr>
          <a:xfrm>
            <a:off x="324000" y="836640"/>
            <a:ext cx="403200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7"/>
          <p:cNvSpPr/>
          <p:nvPr/>
        </p:nvSpPr>
        <p:spPr>
          <a:xfrm>
            <a:off x="4716360" y="220500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за моего детства видели стольк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тей, столько    жестокостей войн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, казалось,  должны они опусте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альчишки. Девчонки. На их хрупкие плечи легла тяжесть невзгод, бедствий, горя военных лет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не согнулись они под этой тяжестью, стали сильнее духом, мужественнее, выносливее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дети на заводе фото"/>
          <p:cNvPicPr/>
          <p:nvPr/>
        </p:nvPicPr>
        <p:blipFill>
          <a:blip r:embed="rId1"/>
          <a:stretch/>
        </p:blipFill>
        <p:spPr>
          <a:xfrm>
            <a:off x="1322280" y="1549440"/>
            <a:ext cx="7821720" cy="502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580000" y="206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налета вражеской авиа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в тылу 2"/>
          <p:cNvPicPr/>
          <p:nvPr/>
        </p:nvPicPr>
        <p:blipFill>
          <a:blip r:embed="rId1"/>
          <a:stretch/>
        </p:blipFill>
        <p:spPr>
          <a:xfrm>
            <a:off x="179280" y="260280"/>
            <a:ext cx="4600800" cy="64087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WordArt 4"/>
          <p:cNvSpPr txBox="1"/>
          <p:nvPr/>
        </p:nvSpPr>
        <p:spPr>
          <a:xfrm>
            <a:off x="5219640" y="333360"/>
            <a:ext cx="36352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дети войны фото"/>
          <p:cNvPicPr/>
          <p:nvPr/>
        </p:nvPicPr>
        <p:blipFill>
          <a:blip r:embed="rId1"/>
          <a:stretch/>
        </p:blipFill>
        <p:spPr>
          <a:xfrm>
            <a:off x="2546280" y="333360"/>
            <a:ext cx="3610080" cy="581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0828fecdc3a33fce26f0184d8f9d100f.jpeg"/>
          <p:cNvPicPr/>
          <p:nvPr/>
        </p:nvPicPr>
        <p:blipFill>
          <a:blip r:embed="rId1"/>
          <a:stretch/>
        </p:blipFill>
        <p:spPr>
          <a:xfrm>
            <a:off x="144360" y="500040"/>
            <a:ext cx="8963280" cy="592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682560" y="16524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9640" y="105264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фашистских концлагерях содержалось более 20 миллионов человек из 30 стран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и них окол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 миллионов дете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konzlager1"/>
          <p:cNvPicPr/>
          <p:nvPr/>
        </p:nvPicPr>
        <p:blipFill>
          <a:blip r:embed="rId1"/>
          <a:stretch/>
        </p:blipFill>
        <p:spPr>
          <a:xfrm>
            <a:off x="1332000" y="2949480"/>
            <a:ext cx="6769080" cy="36910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1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7:47:26Z</dcterms:created>
  <dc:creator>инна</dc:creator>
  <dc:description/>
  <dc:language>en-US</dc:language>
  <cp:lastModifiedBy>Галина</cp:lastModifiedBy>
  <dcterms:modified xsi:type="dcterms:W3CDTF">2015-03-30T16:07:17Z</dcterms:modified>
  <cp:revision>72</cp:revision>
  <dc:subject/>
  <dc:title>ПИОНЕРЫ - ГЕРОИ</dc:title>
</cp:coreProperties>
</file>